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87B7-13A2-4839-AC0D-750FC7E156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A680-7ED4-4D42-84A5-621C9C1E3C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1395-A9E5-4B34-867F-F6DC64C7D1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933B-CF01-43A7-9141-C9051358BE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76B5-1098-4DA1-8417-5163F81048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F164-BF75-497C-8E91-61AD8CA223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C53D-3A74-4CE1-8455-294497F91E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7AA3-FBAD-475E-A211-295ED9E2D9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DDDD-FE47-495A-BDBB-231285B8BD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0822-5B82-49FD-869B-BD59DCD115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32D7-17EC-4B08-A2AC-7A04A6E444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6EF0-761B-46CE-8B16-EB95DAA6C2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C311-5D59-45E8-8FAE-2CDDCB12CE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1FA0-7FC3-4F97-B9BE-BFBB622C9C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4FED-9309-4AF4-89B3-ED486C7BF1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1C0-321E-4E57-8DBA-A711CC2E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76C-75D2-4784-A38F-712CED15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8BD-D1F9-482A-B0B2-D59CE85F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C1C-7D13-441C-86B8-BFF9794D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505-E49C-4ABA-B6C3-20AD346F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FC8-12CB-4B80-9929-A82F6C0B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24E-D73A-436C-8351-FC094E69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2F0-A159-4DD9-960A-BAB68251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157-D538-44C0-B16D-4721BF7C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39B0-0E80-4073-9056-22201A0A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3C58-1B57-46DF-A3EE-8A254A79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B41-47D4-45C7-85BE-9BAADA85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CB39-EB88-4445-AEA5-0BBC8C5F3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9640" y="907920"/>
            <a:ext cx="8209080" cy="50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have 3 minutes to answer these math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ink I can predict who your all time hero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your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 1) Un 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úmero entre uno y nu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 2) x 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 3) + 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 4) x 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 5) take the 2 numbers you will have and add them together e.g. 23 = 2 + 3 =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116000" y="4869000"/>
            <a:ext cx="727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Hay ... laboratori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bunsen_burner_md_clr.gif"/>
          <p:cNvPicPr/>
          <p:nvPr/>
        </p:nvPicPr>
        <p:blipFill>
          <a:blip r:embed="rId1"/>
          <a:stretch/>
        </p:blipFill>
        <p:spPr>
          <a:xfrm>
            <a:off x="3929040" y="1285920"/>
            <a:ext cx="14526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116000" y="4869000"/>
            <a:ext cx="727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Hay un gimnasi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treadmill_hg_clr.gif"/>
          <p:cNvPicPr/>
          <p:nvPr/>
        </p:nvPicPr>
        <p:blipFill>
          <a:blip r:embed="rId1"/>
          <a:stretch/>
        </p:blipFill>
        <p:spPr>
          <a:xfrm>
            <a:off x="2357280" y="1143000"/>
            <a:ext cx="2200320" cy="333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weightlifter_barbell_shrugs_hg_clr.gif"/>
          <p:cNvPicPr/>
          <p:nvPr/>
        </p:nvPicPr>
        <p:blipFill>
          <a:blip r:embed="rId2"/>
          <a:stretch/>
        </p:blipFill>
        <p:spPr>
          <a:xfrm>
            <a:off x="4357800" y="1500120"/>
            <a:ext cx="33336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116000" y="4869000"/>
            <a:ext cx="7273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Me gustaría tener un cine tambié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inema.gif"/>
          <p:cNvPicPr/>
          <p:nvPr/>
        </p:nvPicPr>
        <p:blipFill>
          <a:blip r:embed="rId1"/>
          <a:stretch/>
        </p:blipFill>
        <p:spPr>
          <a:xfrm>
            <a:off x="2143080" y="1928880"/>
            <a:ext cx="43531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403280" y="4941720"/>
            <a:ext cx="727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Me gusta porque es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thumbs up"/>
          <p:cNvPicPr/>
          <p:nvPr/>
        </p:nvPicPr>
        <p:blipFill>
          <a:blip r:embed="rId1"/>
          <a:stretch/>
        </p:blipFill>
        <p:spPr>
          <a:xfrm>
            <a:off x="3492360" y="476280"/>
            <a:ext cx="18655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28760" y="857160"/>
          <a:ext cx="8501040" cy="4799160"/>
        </p:xfrm>
        <a:graphic>
          <a:graphicData uri="http://schemas.openxmlformats.org/drawingml/2006/table">
            <a:tbl>
              <a:tblPr/>
              <a:tblGrid>
                <a:gridCol w="4000320"/>
                <a:gridCol w="4500720"/>
              </a:tblGrid>
              <a:tr h="28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gl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pañ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d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y school is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m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here are 200 pup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here are... l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here’s a g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 would like to have a cinema as 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ecause it is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 like my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4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tiguo      moderno       Mi colegio es...      Me gusta mi colegio    pequeño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e gustaría tener un cine también porque es..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y un gimnasio      grande         Hay doscientos alumnos      Hay...laborato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5" name="TextBox 2"/>
          <p:cNvSpPr/>
          <p:nvPr/>
        </p:nvSpPr>
        <p:spPr>
          <a:xfrm>
            <a:off x="1714680" y="142920"/>
            <a:ext cx="5500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Mi Instituto es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My school is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428760" y="5286240"/>
            <a:ext cx="850104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800" spc="-1" strike="noStrike">
                <a:solidFill>
                  <a:srgbClr val="000000"/>
                </a:solidFill>
                <a:latin typeface="Arial"/>
              </a:rPr>
              <a:t>Translate: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 Mi colegio es muy grande- en total, hay mil * alumnos. Mi colegio no es antiguo, es muy moderno. Odio mi colegio porque es aburrido.     [*mil = thousan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Write your own description, starting with “Mi Instituto se llama Kingsley Schoo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9640" y="907920"/>
            <a:ext cx="8209080" cy="54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u héroe 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o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ñorita Tim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s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ñor H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es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ñorita Ve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atro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ñorita Braun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nc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ñora Sout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is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ñora Fly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ete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ñorita Wil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ch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ñor D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ev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ñor F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1557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vise physical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vise how to describe pers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share some of your descriptions about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learn how to describe you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write a description of you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84360" y="476280"/>
            <a:ext cx="590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Mi Instituto es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dgehill"/>
          <p:cNvPicPr/>
          <p:nvPr/>
        </p:nvPicPr>
        <p:blipFill>
          <a:blip r:embed="rId1"/>
          <a:stretch/>
        </p:blipFill>
        <p:spPr>
          <a:xfrm>
            <a:off x="1692360" y="1700280"/>
            <a:ext cx="60087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19280" y="4724280"/>
            <a:ext cx="590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grand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school building"/>
          <p:cNvPicPr/>
          <p:nvPr/>
        </p:nvPicPr>
        <p:blipFill>
          <a:blip r:embed="rId1"/>
          <a:stretch/>
        </p:blipFill>
        <p:spPr>
          <a:xfrm>
            <a:off x="1692360" y="549360"/>
            <a:ext cx="57610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619280" y="4724280"/>
            <a:ext cx="590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peque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ñ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school building"/>
          <p:cNvPicPr/>
          <p:nvPr/>
        </p:nvPicPr>
        <p:blipFill>
          <a:blip r:embed="rId1"/>
          <a:stretch/>
        </p:blipFill>
        <p:spPr>
          <a:xfrm>
            <a:off x="2843280" y="1628640"/>
            <a:ext cx="259236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619280" y="4724280"/>
            <a:ext cx="590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antigu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castle"/>
          <p:cNvPicPr/>
          <p:nvPr/>
        </p:nvPicPr>
        <p:blipFill>
          <a:blip r:embed="rId1"/>
          <a:stretch/>
        </p:blipFill>
        <p:spPr>
          <a:xfrm>
            <a:off x="2838600" y="1819440"/>
            <a:ext cx="346680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619280" y="4724280"/>
            <a:ext cx="590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modern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modernbuilding"/>
          <p:cNvPicPr/>
          <p:nvPr/>
        </p:nvPicPr>
        <p:blipFill>
          <a:blip r:embed="rId1"/>
          <a:stretch/>
        </p:blipFill>
        <p:spPr>
          <a:xfrm>
            <a:off x="2771640" y="1773360"/>
            <a:ext cx="360072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116000" y="4869000"/>
            <a:ext cx="7273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Hay doscientos alumn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916360" y="620640"/>
            <a:ext cx="35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student with crusch"/>
          <p:cNvPicPr/>
          <p:nvPr/>
        </p:nvPicPr>
        <p:blipFill>
          <a:blip r:embed="rId1"/>
          <a:stretch/>
        </p:blipFill>
        <p:spPr>
          <a:xfrm>
            <a:off x="2700360" y="1989000"/>
            <a:ext cx="33336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2:29:18Z</dcterms:created>
  <dc:creator>Chris Fuller</dc:creator>
  <dc:description/>
  <dc:language>en-US</dc:language>
  <cp:lastModifiedBy>Chris</cp:lastModifiedBy>
  <dcterms:modified xsi:type="dcterms:W3CDTF">2009-05-10T07:55:25Z</dcterms:modified>
  <cp:revision>4</cp:revision>
  <dc:subject/>
  <dc:title>Slide 1</dc:title>
</cp:coreProperties>
</file>